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767513" cy="2195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-1852560" y="685440"/>
            <a:ext cx="105631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9AF-6C77-48E2-87DD-CF81CFD1F5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-1852560" y="685800"/>
            <a:ext cx="1056312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表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E56D-C04E-4797-990A-7DF47A0049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-1852560" y="685800"/>
            <a:ext cx="1056312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裏面デー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5ED5-EF28-449D-8FB5-C26DD22155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145-A7E4-46F9-93D0-A8BFC37D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609300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7680" y="1270440"/>
            <a:ext cx="609300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D4FB-97E6-4D25-940A-79F6A175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5996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7680" y="127044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59960" y="127044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4D5-9726-4C5A-A4D0-DFE31439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97960" y="51228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7880" y="51228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7680" y="127044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97960" y="127044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7880" y="1270440"/>
            <a:ext cx="19616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4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D39-B504-4F10-B656-A06292B8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7680" y="512280"/>
            <a:ext cx="6093000" cy="14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054B-1065-41EC-AC2C-4EFC5206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609300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E05-5DD2-4225-829F-AE3CA66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297324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9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59960" y="512280"/>
            <a:ext cx="297324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9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536-8CBA-4419-A65C-2E4113C7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625-C0F8-4B6A-B4F4-84FCF500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7680" y="88920"/>
            <a:ext cx="6093000" cy="16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E42-AD2C-46C0-9FA8-3A2C7C96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59960" y="512280"/>
            <a:ext cx="297324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9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7680" y="127044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F33-2171-4A68-916B-D16CC71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297324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98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5996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59960" y="127044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9BC-7B99-492A-95FE-56D93D3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7680" y="-248040"/>
            <a:ext cx="6093000" cy="10393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59960" y="512280"/>
            <a:ext cx="297324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5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7680" y="1270440"/>
            <a:ext cx="6093000" cy="69192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84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696-8F3E-4D77-BFB0-CC9E8FA1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7680" y="88920"/>
            <a:ext cx="6093000" cy="36504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7680" y="512280"/>
            <a:ext cx="6093000" cy="14511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62280" bIns="62280" anchor="t">
            <a:normAutofit fontScale="24000"/>
          </a:bodyPr>
          <a:p>
            <a:pPr marL="111960" indent="-111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242640" indent="-932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373320" indent="-7452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3" marL="522720" indent="-745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671760" indent="-745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5" marL="671760" indent="-745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6" marL="671760" indent="-745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8040" y="2036880"/>
            <a:ext cx="1578240" cy="1173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55080" bIns="55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11560" y="2036880"/>
            <a:ext cx="2146320" cy="1173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55080" bIns="55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52800" y="2036880"/>
            <a:ext cx="1577880" cy="117360"/>
          </a:xfrm>
          <a:prstGeom prst="rect">
            <a:avLst/>
          </a:prstGeom>
          <a:noFill/>
          <a:ln w="0">
            <a:noFill/>
          </a:ln>
        </p:spPr>
        <p:txBody>
          <a:bodyPr lIns="124560" rIns="124560" tIns="55080" bIns="55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5500-31EE-4121-B63F-0716BF07CB39}" type="slidenum">
              <a:rPr b="0" lang="ja-JP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4"/>
          <p:cNvSpPr/>
          <p:nvPr/>
        </p:nvSpPr>
        <p:spPr>
          <a:xfrm>
            <a:off x="108000" y="108000"/>
            <a:ext cx="655164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線コネクタ 10"/>
          <p:cNvSpPr/>
          <p:nvPr/>
        </p:nvSpPr>
        <p:spPr>
          <a:xfrm>
            <a:off x="3384720" y="19080"/>
            <a:ext cx="0" cy="217800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6"/>
          <p:cNvSpPr/>
          <p:nvPr/>
        </p:nvSpPr>
        <p:spPr>
          <a:xfrm>
            <a:off x="216000" y="380880"/>
            <a:ext cx="282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横書き左開きの場合、こちらが裏面に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6"/>
          <p:cNvSpPr/>
          <p:nvPr/>
        </p:nvSpPr>
        <p:spPr>
          <a:xfrm>
            <a:off x="3745080" y="378000"/>
            <a:ext cx="2822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横書き左開きの場合、こちらが表面に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6"/>
          <p:cNvSpPr/>
          <p:nvPr/>
        </p:nvSpPr>
        <p:spPr>
          <a:xfrm>
            <a:off x="2035080" y="230040"/>
            <a:ext cx="2698920" cy="16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080" rIns="118080" tIns="59040" bIns="59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パワーポイント用テンプレート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この枠は横型Ｌサイズ（幅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182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高さ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）の枠になり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フチまでイラストや写真が入る場合は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この枠より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㎜</a:t>
            </a: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余分にはみだして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フチまでの配置ですと、カット時の誤差により、白い線がふちに入る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標準書体以外をお使いになりますと、印刷用データに変換する際、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文字化けしてしまう場合がござい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Calibri"/>
              </a:rPr>
              <a:t>ご注意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正方形/長方形 7"/>
          <p:cNvSpPr/>
          <p:nvPr/>
        </p:nvSpPr>
        <p:spPr>
          <a:xfrm>
            <a:off x="108000" y="108000"/>
            <a:ext cx="6551640" cy="1979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8"/>
          <p:cNvSpPr/>
          <p:nvPr/>
        </p:nvSpPr>
        <p:spPr>
          <a:xfrm>
            <a:off x="3384720" y="19080"/>
            <a:ext cx="0" cy="2178000"/>
          </a:xfrm>
          <a:prstGeom prst="line">
            <a:avLst/>
          </a:prstGeom>
          <a:ln w="648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6"/>
          <p:cNvSpPr/>
          <p:nvPr/>
        </p:nvSpPr>
        <p:spPr>
          <a:xfrm>
            <a:off x="430200" y="647640"/>
            <a:ext cx="2822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中面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左側に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5"/>
          <p:cNvSpPr/>
          <p:nvPr/>
        </p:nvSpPr>
        <p:spPr>
          <a:xfrm>
            <a:off x="3514680" y="627120"/>
            <a:ext cx="28227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4560" rIns="124560" tIns="62280" bIns="6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中面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2dcdb"/>
                </a:solidFill>
                <a:latin typeface="Calibri"/>
              </a:rPr>
              <a:t>右側に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2T08:03:03Z</dcterms:created>
  <dc:creator>NISHI0210</dc:creator>
  <dc:description/>
  <dc:language>en-US</dc:language>
  <cp:lastModifiedBy>後藤光貴</cp:lastModifiedBy>
  <dcterms:modified xsi:type="dcterms:W3CDTF">2018-04-05T03:52:50Z</dcterms:modified>
  <cp:revision>11</cp:revision>
  <dc:subject/>
  <dc:title>PowerPoint プレゼンテーション</dc:title>
</cp:coreProperties>
</file>