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3276600" cy="39957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23920" y="685440"/>
            <a:ext cx="28101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43C3-E586-4382-A30B-A232EFF40A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023920" y="685800"/>
            <a:ext cx="281016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50F1-6C77-4E8C-B98F-3F4E400D714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2023920" y="685800"/>
            <a:ext cx="281016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裏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5E8C-4F76-4AAE-98F8-331B0A8E95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683B-FC00-447D-B711-8B09B629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3080" y="-468360"/>
            <a:ext cx="2949480" cy="19227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3080" y="933480"/>
            <a:ext cx="29494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3080" y="2310840"/>
            <a:ext cx="29494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6D2-2BAB-4F3E-BA39-0C6FD0D3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3080" y="-468360"/>
            <a:ext cx="2949480" cy="19227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3080" y="933480"/>
            <a:ext cx="14392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4720" y="933480"/>
            <a:ext cx="14392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3080" y="2310840"/>
            <a:ext cx="14392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74720" y="2310840"/>
            <a:ext cx="14392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968-9278-479E-841D-0DF44160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3080" y="-468360"/>
            <a:ext cx="2949480" cy="19227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3080" y="933480"/>
            <a:ext cx="94932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0280" y="933480"/>
            <a:ext cx="94932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57480" y="933480"/>
            <a:ext cx="94932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3080" y="2310840"/>
            <a:ext cx="94932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0280" y="2310840"/>
            <a:ext cx="94932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57480" y="2310840"/>
            <a:ext cx="94932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DC2-419C-45AF-87BD-64DCF39C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3080" y="-468360"/>
            <a:ext cx="2949480" cy="19227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3080" y="933480"/>
            <a:ext cx="2949480" cy="26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941-344D-49B1-8F13-5A6E8D29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3080" y="-468360"/>
            <a:ext cx="2949480" cy="19227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3080" y="933480"/>
            <a:ext cx="2949480" cy="26366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F54-655D-4778-A0DD-B0108D0F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3080" y="-468360"/>
            <a:ext cx="2949480" cy="19227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3080" y="933480"/>
            <a:ext cx="1439280" cy="26366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2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74720" y="933480"/>
            <a:ext cx="1439280" cy="26366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2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9D3-0865-4F88-BCC9-5BAC7AF0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3080" y="-468360"/>
            <a:ext cx="2949480" cy="19227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375-0BBB-4646-8F54-3BAD2381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3080" y="160200"/>
            <a:ext cx="294948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D77-F26C-4597-B554-7575496A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080" y="-468360"/>
            <a:ext cx="2949480" cy="19227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3080" y="933480"/>
            <a:ext cx="14392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74720" y="933480"/>
            <a:ext cx="1439280" cy="26366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2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3080" y="2310840"/>
            <a:ext cx="14392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355D-B460-4669-8D6B-D6DF93C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080" y="-468360"/>
            <a:ext cx="2949480" cy="19227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3080" y="933480"/>
            <a:ext cx="1439280" cy="26366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2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74720" y="933480"/>
            <a:ext cx="14392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4720" y="2310840"/>
            <a:ext cx="14392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587-4797-4E41-8FA6-A616224D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3080" y="-468360"/>
            <a:ext cx="2949480" cy="19227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3080" y="933480"/>
            <a:ext cx="14392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74720" y="933480"/>
            <a:ext cx="14392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3080" y="2310840"/>
            <a:ext cx="2949480" cy="1257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6000"/>
          </a:bodyPr>
          <a:p>
            <a:pPr indent="0"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371-9F08-4E79-9213-1C19EFE2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080" y="160200"/>
            <a:ext cx="2949480" cy="6652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3080" y="933480"/>
            <a:ext cx="2949480" cy="26366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7000"/>
          </a:bodyPr>
          <a:p>
            <a:pPr marL="170640" indent="-17064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1" marL="370440" indent="-1422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2" marL="570240" indent="-1137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3" marL="798120" indent="-11376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4" marL="1026000" indent="-1137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5" marL="1026000" indent="-1137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lvl="6" marL="1026000" indent="-11376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080" y="3704760"/>
            <a:ext cx="763560" cy="211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19240" y="3704760"/>
            <a:ext cx="1038240" cy="211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49000" y="3704760"/>
            <a:ext cx="763560" cy="211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50A1-8322-477C-9CB6-759ABB5C98DD}" type="slidenum">
              <a:rPr b="0" lang="ja-JP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95400" y="90360"/>
            <a:ext cx="3060720" cy="38149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920" rIns="1069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3"/>
          <p:cNvSpPr/>
          <p:nvPr/>
        </p:nvSpPr>
        <p:spPr>
          <a:xfrm>
            <a:off x="14400" y="1998720"/>
            <a:ext cx="324792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6"/>
          <p:cNvSpPr/>
          <p:nvPr/>
        </p:nvSpPr>
        <p:spPr>
          <a:xfrm rot="10800000">
            <a:off x="28080" y="912240"/>
            <a:ext cx="3194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f2dcdb"/>
                </a:solidFill>
                <a:latin typeface="Calibri"/>
              </a:rPr>
              <a:t>こちらの面が表になります。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6"/>
          <p:cNvSpPr/>
          <p:nvPr/>
        </p:nvSpPr>
        <p:spPr>
          <a:xfrm>
            <a:off x="246240" y="569880"/>
            <a:ext cx="270504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パワーポイント用テンプレート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枠は縦型Ｓサイズ（幅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85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高さ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6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）の枠になり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までイラストや写真が入る場合は、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枠より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余分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までの配置ですと、カット時の誤差により、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白い線がふちに入る場合がござ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標準書体以外をお使いになりますと、印刷用データに変換する際、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化けしてしまう場合がござ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ご注意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6"/>
          <p:cNvSpPr/>
          <p:nvPr/>
        </p:nvSpPr>
        <p:spPr>
          <a:xfrm>
            <a:off x="-3240" y="2352600"/>
            <a:ext cx="3194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f2dcdb"/>
                </a:solidFill>
                <a:latin typeface="Calibri"/>
              </a:rPr>
              <a:t>こちらの面が裏になります。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正方形/長方形 6"/>
          <p:cNvSpPr/>
          <p:nvPr/>
        </p:nvSpPr>
        <p:spPr>
          <a:xfrm>
            <a:off x="122400" y="106200"/>
            <a:ext cx="3031920" cy="3783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6920" rIns="10692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7"/>
          <p:cNvSpPr/>
          <p:nvPr/>
        </p:nvSpPr>
        <p:spPr>
          <a:xfrm>
            <a:off x="14400" y="1998720"/>
            <a:ext cx="324792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6"/>
          <p:cNvSpPr/>
          <p:nvPr/>
        </p:nvSpPr>
        <p:spPr>
          <a:xfrm>
            <a:off x="144360" y="393840"/>
            <a:ext cx="3192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f2dcdb"/>
                </a:solidFill>
                <a:latin typeface="Calibri"/>
              </a:rPr>
              <a:t>中面の上になります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5"/>
          <p:cNvSpPr/>
          <p:nvPr/>
        </p:nvSpPr>
        <p:spPr>
          <a:xfrm>
            <a:off x="157320" y="2425680"/>
            <a:ext cx="3192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f2dcdb"/>
                </a:solidFill>
                <a:latin typeface="Calibri"/>
              </a:rPr>
              <a:t>中面の下になります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後藤光貴</cp:lastModifiedBy>
  <dcterms:modified xsi:type="dcterms:W3CDTF">2018-04-05T03:49:54Z</dcterms:modified>
  <cp:revision>11</cp:revision>
  <dc:subject/>
  <dc:title>PowerPoint プレゼンテーション</dc:title>
</cp:coreProperties>
</file>