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311525" cy="1944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509760" y="685440"/>
            <a:ext cx="583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9C1E-5A8C-44DA-B97F-419620E36B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09760" y="685800"/>
            <a:ext cx="583848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482C-86B3-4332-9812-1356CCCFA1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509760" y="685800"/>
            <a:ext cx="583848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4FA1-0604-43DD-985E-C86B1B0226E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106-8D50-4C6C-9622-9CC2ACFC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29782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6320" y="1125000"/>
            <a:ext cx="29782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211-8498-4E29-B89D-0BBA45AC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927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6320" y="112500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92720" y="112500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7914-061E-45EC-B6DE-AA421AC4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3240" y="45396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80160" y="45396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6320" y="112500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73240" y="112500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80160" y="1125000"/>
            <a:ext cx="9586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768B-7F33-43B5-AC87-D2664F4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6320" y="453960"/>
            <a:ext cx="297828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93C-2D7D-4AB0-920F-CBD52592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297828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639-A293-43A0-9765-D397836D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14533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92720" y="453960"/>
            <a:ext cx="14533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0C3-609E-4A93-9C18-A194940F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B67-8FCA-4985-9270-34A08465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6320" y="77760"/>
            <a:ext cx="2978280" cy="150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48C-EDF6-44BC-833A-07A7673D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92720" y="453960"/>
            <a:ext cx="14533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6320" y="112500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C84-9FEC-4CF8-B44C-9A7C6E2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145332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927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2720" y="112500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BE9-27E3-4346-932C-22198E6A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6320" y="-401400"/>
            <a:ext cx="2978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63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92720" y="453960"/>
            <a:ext cx="145332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6320" y="1125000"/>
            <a:ext cx="2978280" cy="61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9B6-A465-46D2-A459-50041DC6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6320" y="77760"/>
            <a:ext cx="29782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6320" y="453960"/>
            <a:ext cx="2978280" cy="12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99720" indent="-99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17080" indent="-8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34080" indent="-66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468000" indent="-66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601920" indent="-66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601920" indent="-66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601920" indent="-662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6320" y="1802880"/>
            <a:ext cx="771480" cy="1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30040" y="1802880"/>
            <a:ext cx="1050840" cy="1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73120" y="1802880"/>
            <a:ext cx="771480" cy="1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2DD-B7A0-4700-962D-41228B186AC4}" type="slidenum">
              <a:rPr b="0" lang="ja-JP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54000" y="54000"/>
            <a:ext cx="3203640" cy="1836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503280" y="345960"/>
            <a:ext cx="2300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89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4"/>
          <p:cNvSpPr/>
          <p:nvPr/>
        </p:nvSpPr>
        <p:spPr>
          <a:xfrm>
            <a:off x="54000" y="54000"/>
            <a:ext cx="3203640" cy="1836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503280" y="345960"/>
            <a:ext cx="23004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89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51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2:58:56Z</dcterms:modified>
  <cp:revision>6</cp:revision>
  <dc:subject/>
  <dc:title>PowerPoint プレゼンテーション</dc:title>
</cp:coreProperties>
</file>