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168650" cy="2052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82640" y="685440"/>
            <a:ext cx="5292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3244-C73A-4130-9F30-A5AAE4FC01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782640" y="685800"/>
            <a:ext cx="529272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3209-7161-4F29-9032-7715AFA771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782640" y="685800"/>
            <a:ext cx="529272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5F57-FB2D-4B6A-B279-95C6D868EEA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5C0-0798-482B-822D-D601BFD8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28512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8760" y="1186200"/>
            <a:ext cx="28512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40D-2DF2-4437-8EA3-5E272F55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19640" y="47916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8760" y="118620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19640" y="118620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F223-9654-4DB7-A9E3-83CB762F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9180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23200" y="479160"/>
            <a:ext cx="9180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87280" y="479160"/>
            <a:ext cx="9180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8760" y="1186200"/>
            <a:ext cx="9180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23200" y="1186200"/>
            <a:ext cx="9180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87280" y="1186200"/>
            <a:ext cx="9180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FB6-1116-4DB6-A841-812AFF52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8760" y="479160"/>
            <a:ext cx="2851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D23-DDB9-4C9D-943E-B9A37D70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28512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8A6-A52F-426C-B076-CC9127E3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13910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19640" y="479160"/>
            <a:ext cx="13910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1580-3F83-4A37-A75D-405874E1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C5D-33FE-40CE-B476-E31DCD77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8760" y="82440"/>
            <a:ext cx="2851200" cy="15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F0F-39FD-41DB-B62C-8E0F1B97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19640" y="479160"/>
            <a:ext cx="13910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8760" y="118620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972-8D7A-41C2-AA09-6E30D42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13910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19640" y="47916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19640" y="118620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031-CE38-405A-9AF2-B49AB079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8760" y="-418320"/>
            <a:ext cx="28512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8760" y="47916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19640" y="479160"/>
            <a:ext cx="139104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8760" y="1186200"/>
            <a:ext cx="2851200" cy="6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60D-22D8-437E-B253-0F7D060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82440"/>
            <a:ext cx="28512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8760" y="479160"/>
            <a:ext cx="28512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105840" indent="-10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229320" indent="-87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352800" indent="-702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493920" indent="-702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635400" indent="-702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635400" indent="-702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635400" indent="-702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8760" y="1903320"/>
            <a:ext cx="73800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82160" y="1903320"/>
            <a:ext cx="100332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71240" y="1903320"/>
            <a:ext cx="738360" cy="1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C514-72EE-4830-874C-6C2CFF156C1D}" type="slidenum">
              <a:rPr b="0" lang="ja-JP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54000" y="54000"/>
            <a:ext cx="3060720" cy="194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6"/>
          <p:cNvSpPr/>
          <p:nvPr/>
        </p:nvSpPr>
        <p:spPr>
          <a:xfrm>
            <a:off x="371520" y="368280"/>
            <a:ext cx="24256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は標準サイズの幅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54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の枠になり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余分に配置して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白い線がふちに入る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4"/>
          <p:cNvSpPr/>
          <p:nvPr/>
        </p:nvSpPr>
        <p:spPr>
          <a:xfrm>
            <a:off x="54000" y="54000"/>
            <a:ext cx="3060720" cy="194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371520" y="368280"/>
            <a:ext cx="242568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は標準サイズの幅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85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54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の枠になり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余分に配置して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白い線がふちに入る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後藤光貴</cp:lastModifiedBy>
  <dcterms:modified xsi:type="dcterms:W3CDTF">2018-04-05T02:57:21Z</dcterms:modified>
  <cp:revision>5</cp:revision>
  <dc:subject/>
  <dc:title>PowerPoint プレゼンテーション</dc:title>
</cp:coreProperties>
</file>