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2087563" cy="2087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E3E5-A03D-4E19-9E07-31E6BC620E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C71-EFE4-4A03-96AF-0F243EBDCE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3B3-D8A1-42AE-B9BE-B1488DD3F5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7606-FDA2-410D-939E-A16CC9F3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187812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400" y="1206720"/>
            <a:ext cx="187812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C95-663E-482E-A219-3A9616DF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8708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400" y="120672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66680" y="120672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7F1-FCBF-4378-8FC4-D597202B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6044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39440" y="487080"/>
            <a:ext cx="6044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4480" y="487080"/>
            <a:ext cx="6044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400" y="1206720"/>
            <a:ext cx="6044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39440" y="1206720"/>
            <a:ext cx="6044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74480" y="1206720"/>
            <a:ext cx="60444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567-A04D-403D-AB1A-FC01862B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400" y="487080"/>
            <a:ext cx="1878120" cy="13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658-4E1B-42C2-A9EC-A47F931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1878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34C-3BB3-42D4-975D-BE2CC6FA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91620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66680" y="487080"/>
            <a:ext cx="91620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CDD-D4AD-44D3-9F64-1A40A7E6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163-1A3F-4EE8-9754-2FEC7083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400" y="83880"/>
            <a:ext cx="1878120" cy="16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C95-A9F2-4DE9-962F-925F954F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66680" y="487080"/>
            <a:ext cx="91620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400" y="120672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DDA1-24C8-4F30-9F0D-54E3646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91620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66680" y="48708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120672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0C7-B4B2-4540-898E-5CC0FDF2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400" y="-200880"/>
            <a:ext cx="18781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00" y="48708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66680" y="487080"/>
            <a:ext cx="9162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400" y="1206720"/>
            <a:ext cx="187812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0E1-5D96-42F3-818B-B71310B5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400" y="83880"/>
            <a:ext cx="1878120" cy="3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400" y="487080"/>
            <a:ext cx="187812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01160" indent="-1011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19240" indent="-842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338040" indent="-6696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473040" indent="-669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608760" indent="-66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608760" indent="-66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608760" indent="-6696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760" y="1934640"/>
            <a:ext cx="48744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2440" y="1934640"/>
            <a:ext cx="66204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95440" y="1934640"/>
            <a:ext cx="487440" cy="1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F46B-E8D8-4114-8EC9-E4FC0E8E375A}" type="slidenum">
              <a:rPr b="0" lang="ja-JP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54000" y="54000"/>
            <a:ext cx="1979640" cy="19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144360" y="144360"/>
            <a:ext cx="1800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パワーポイント用テンプレー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この枠は正方形サイズの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55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×55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の枠になり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フチまでイラストや写真が入る場合は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この枠より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余分に配置して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フチまでの配置ですと、カット時の誤差により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白い線がふちに入る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標準書体以外をお使いになりますと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印刷用データに変換する際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文字化けしてしまう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ご注意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3"/>
          <p:cNvSpPr/>
          <p:nvPr/>
        </p:nvSpPr>
        <p:spPr>
          <a:xfrm>
            <a:off x="54000" y="54000"/>
            <a:ext cx="1979640" cy="19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144360" y="144360"/>
            <a:ext cx="1800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パワーポイント用テンプレー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この枠は正方形サイズの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55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×55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の枠になり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フチまでイラストや写真が入る場合は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この枠より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1.5</a:t>
            </a:r>
            <a:r>
              <a:rPr b="0" lang="en-US" sz="5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余分に配置して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フチまでの配置ですと、カット時の誤差により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白い線がふちに入る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標準書体以外をお使いになりますと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印刷用データに変換する際、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文字化けしてしまう場合がございます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00" spc="-1" strike="noStrike">
                <a:solidFill>
                  <a:srgbClr val="000000"/>
                </a:solidFill>
                <a:latin typeface="ＭＳ Ｐゴシック"/>
              </a:rPr>
              <a:t>ご注意ください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fukuda</cp:lastModifiedBy>
  <dcterms:modified xsi:type="dcterms:W3CDTF">2022-01-26T23:32:12Z</dcterms:modified>
  <cp:revision>6</cp:revision>
  <dc:subject/>
  <dc:title>PowerPoint プレゼンテーション</dc:title>
</cp:coreProperties>
</file>