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3384550" cy="2087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52320" y="685440"/>
            <a:ext cx="55533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ABD8-89EB-4FE8-8738-245B542BA9E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652320" y="685800"/>
            <a:ext cx="555336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2DF0-4185-4834-829F-3889265CB0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652320" y="685800"/>
            <a:ext cx="555336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裏面デー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DF6C-801A-4AF3-AF0F-A5EB864CFD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61EA-E70F-44EA-9F22-16FE9529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920" y="-459720"/>
            <a:ext cx="3044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9920" y="487440"/>
            <a:ext cx="304488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9920" y="1208160"/>
            <a:ext cx="304488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2A9-D3D2-4254-896B-9EFBAFAF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920" y="-459720"/>
            <a:ext cx="3044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9920" y="487440"/>
            <a:ext cx="148572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30160" y="487440"/>
            <a:ext cx="148572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9920" y="1208160"/>
            <a:ext cx="148572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30160" y="1208160"/>
            <a:ext cx="148572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A52-9D58-4382-8A83-8F77BAFF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920" y="-459720"/>
            <a:ext cx="3044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9920" y="487440"/>
            <a:ext cx="98028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99520" y="487440"/>
            <a:ext cx="98028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29120" y="487440"/>
            <a:ext cx="98028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9920" y="1208160"/>
            <a:ext cx="98028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99520" y="1208160"/>
            <a:ext cx="98028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29120" y="1208160"/>
            <a:ext cx="98028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B77-018F-4571-96F4-A8389F62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920" y="-459720"/>
            <a:ext cx="3044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9920" y="487440"/>
            <a:ext cx="304488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E8F-5D7A-4091-81E8-560DD6D7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920" y="-459720"/>
            <a:ext cx="3044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9920" y="487440"/>
            <a:ext cx="3044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3B6-3177-4E9E-80D0-9640EED1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920" y="-459720"/>
            <a:ext cx="3044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9920" y="487440"/>
            <a:ext cx="14857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30160" y="487440"/>
            <a:ext cx="14857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BAA-B445-464F-ADBE-4F8B3B2C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920" y="-459720"/>
            <a:ext cx="3044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271-83CE-433F-BE86-3FEF493C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920" y="83880"/>
            <a:ext cx="3044880" cy="16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5C73-F17A-4E09-9483-AEF2A192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920" y="-459720"/>
            <a:ext cx="3044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9920" y="487440"/>
            <a:ext cx="148572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30160" y="487440"/>
            <a:ext cx="14857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9920" y="1208160"/>
            <a:ext cx="148572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2B8-3CF7-428E-9D3C-31914973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920" y="-459720"/>
            <a:ext cx="3044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920" y="487440"/>
            <a:ext cx="14857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30160" y="487440"/>
            <a:ext cx="148572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30160" y="1208160"/>
            <a:ext cx="148572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EC6-5A27-4984-94BB-AA2F641C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920" y="-459720"/>
            <a:ext cx="3044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9920" y="487440"/>
            <a:ext cx="148572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30160" y="487440"/>
            <a:ext cx="148572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9920" y="1208160"/>
            <a:ext cx="304488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6D8-CFE5-4352-AAEB-5E851B83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83880"/>
            <a:ext cx="3044880" cy="3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9920" y="487440"/>
            <a:ext cx="3044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106200" indent="-106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30040" indent="-8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54240" indent="-70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95720" indent="-70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637560" indent="-70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637560" indent="-70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637560" indent="-70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9560" y="1936440"/>
            <a:ext cx="788760" cy="1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55240" y="1936440"/>
            <a:ext cx="1073160" cy="1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425680" y="1936440"/>
            <a:ext cx="789120" cy="1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B910-53ED-44BF-8CD8-44F391166F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4"/>
          <p:cNvSpPr/>
          <p:nvPr/>
        </p:nvSpPr>
        <p:spPr>
          <a:xfrm>
            <a:off x="54000" y="54000"/>
            <a:ext cx="3276720" cy="1979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6"/>
          <p:cNvSpPr/>
          <p:nvPr/>
        </p:nvSpPr>
        <p:spPr>
          <a:xfrm>
            <a:off x="468360" y="181080"/>
            <a:ext cx="2592360" cy="13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パワーポイント用テンプレート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この枠は標準サイズの幅</a:t>
            </a: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91</a:t>
            </a: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高さ</a:t>
            </a: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の枠になります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フチまでイラストや写真が入る場合は、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この枠より</a:t>
            </a: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余分に配置してください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フチまでの配置ですと、カット時の誤差により、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白い線がふちに入る場合がございます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標準書体以外をお使いになりますと、印刷用データに変換する際、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文字化けしてしまう場合がございます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ご注意ください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正方形/長方形 4"/>
          <p:cNvSpPr/>
          <p:nvPr/>
        </p:nvSpPr>
        <p:spPr>
          <a:xfrm>
            <a:off x="54000" y="54000"/>
            <a:ext cx="3276720" cy="1979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2"/>
          <p:cNvSpPr/>
          <p:nvPr/>
        </p:nvSpPr>
        <p:spPr>
          <a:xfrm>
            <a:off x="468360" y="181080"/>
            <a:ext cx="2592360" cy="13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パワーポイント用テンプレート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この枠は標準サイズの幅</a:t>
            </a: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91</a:t>
            </a: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高さ</a:t>
            </a: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の枠になります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フチまでイラストや写真が入る場合は、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この枠より</a:t>
            </a: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余分に配置してください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フチまでの配置ですと、カット時の誤差により、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白い線がふちに入る場合がございます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標準書体以外をお使いになりますと、印刷用データに変換する際、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文字化けしてしまう場合がございます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Calibri"/>
              </a:rPr>
              <a:t>ご注意ください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NISHI0210</cp:lastModifiedBy>
  <dcterms:modified xsi:type="dcterms:W3CDTF">2012-09-12T09:17:26Z</dcterms:modified>
  <cp:revision>4</cp:revision>
  <dc:subject/>
  <dc:title>PowerPoint プレゼンテーション</dc:title>
</cp:coreProperties>
</file>