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3492500" cy="4176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95480" y="685440"/>
            <a:ext cx="28670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9FF3-B190-4E56-9809-7DAD7E460A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995480" y="685800"/>
            <a:ext cx="286704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6DCE-0A3C-4C63-8F2A-FC7D2BCB79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995480" y="685800"/>
            <a:ext cx="286704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裏面デー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D40C-555D-4DCF-B925-5E3F901D12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239-53D7-4386-906D-21D62A5A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4240" y="241488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CC6-AD4A-4B13-8161-CDE679CD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78488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651-5A0A-42B1-9393-4F6247E8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3732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00040" y="97452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424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3732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00040" y="2414880"/>
            <a:ext cx="10119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8EC-C108-4474-8157-6303086F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229-B8A4-4412-A722-968B712C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6CB-2408-42BF-95CD-A52B3212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E2D-84B3-444E-84D6-CEE08C58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5E2-FD6C-4257-BA42-111115DF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4240" y="168120"/>
            <a:ext cx="314316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8C4-A51D-4D05-86A2-2241A8F8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123-B745-4EA9-9DEB-82258DFA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5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4880" y="241488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BD39-B762-4006-93E5-13061646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240" y="-460800"/>
            <a:ext cx="3143160" cy="19537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424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784880" y="974520"/>
            <a:ext cx="153360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4240" y="2414880"/>
            <a:ext cx="3143160" cy="13150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965-D4B3-4FAD-A9DB-562118EE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168120"/>
            <a:ext cx="3143160" cy="6955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4240" y="974520"/>
            <a:ext cx="3143160" cy="27572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38000"/>
          </a:bodyPr>
          <a:p>
            <a:pPr marL="177120" indent="-1771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384120" indent="-147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591120" indent="-118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827640" indent="-1180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1064160" indent="-11808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4600" y="3871800"/>
            <a:ext cx="81432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92320" y="3871800"/>
            <a:ext cx="110808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503440" y="3871800"/>
            <a:ext cx="814320" cy="22248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4FC6-7F84-4561-8E02-D467FD1863E1}" type="slidenum">
              <a:rPr b="0" lang="ja-JP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4"/>
          <p:cNvSpPr/>
          <p:nvPr/>
        </p:nvSpPr>
        <p:spPr>
          <a:xfrm>
            <a:off x="108000" y="108000"/>
            <a:ext cx="3276720" cy="396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3"/>
          <p:cNvSpPr/>
          <p:nvPr/>
        </p:nvSpPr>
        <p:spPr>
          <a:xfrm>
            <a:off x="0" y="2087640"/>
            <a:ext cx="3492360" cy="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6"/>
          <p:cNvSpPr/>
          <p:nvPr/>
        </p:nvSpPr>
        <p:spPr>
          <a:xfrm rot="10800000">
            <a:off x="162000" y="1055880"/>
            <a:ext cx="3222720" cy="7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2dcdb"/>
                </a:solidFill>
                <a:latin typeface="Calibri"/>
              </a:rPr>
              <a:t>こちらの面が表になります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6"/>
          <p:cNvSpPr/>
          <p:nvPr/>
        </p:nvSpPr>
        <p:spPr>
          <a:xfrm>
            <a:off x="376200" y="915840"/>
            <a:ext cx="273060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パワーポイント用テンプレー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枠は縦型Ｌサイズ（幅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91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㎜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高さ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110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㎜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）の枠になりま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フチまでイラストや写真が入る場合は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枠より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㎜</a:t>
            </a: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余分に配置して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フチまでの配置ですと、カット時の誤差により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白い線がふちに入る場合がございま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標準書体以外をお使いになりますと、印刷用データに変換する際、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文字化けしてしまう場合がございます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ご注意ください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6"/>
          <p:cNvSpPr/>
          <p:nvPr/>
        </p:nvSpPr>
        <p:spPr>
          <a:xfrm>
            <a:off x="130320" y="2521080"/>
            <a:ext cx="3222360" cy="7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2dcdb"/>
                </a:solidFill>
                <a:latin typeface="Calibri"/>
              </a:rPr>
              <a:t>こちらの面が裏になります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直線コネクタ 2"/>
          <p:cNvSpPr/>
          <p:nvPr/>
        </p:nvSpPr>
        <p:spPr>
          <a:xfrm>
            <a:off x="0" y="2087640"/>
            <a:ext cx="3492360" cy="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5"/>
          <p:cNvSpPr/>
          <p:nvPr/>
        </p:nvSpPr>
        <p:spPr>
          <a:xfrm>
            <a:off x="108000" y="108000"/>
            <a:ext cx="3276720" cy="3960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6"/>
          <p:cNvSpPr/>
          <p:nvPr/>
        </p:nvSpPr>
        <p:spPr>
          <a:xfrm>
            <a:off x="130320" y="396720"/>
            <a:ext cx="3222360" cy="7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2dcdb"/>
                </a:solidFill>
                <a:latin typeface="Calibri"/>
              </a:rPr>
              <a:t>中面の上になりま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6"/>
          <p:cNvSpPr/>
          <p:nvPr/>
        </p:nvSpPr>
        <p:spPr>
          <a:xfrm>
            <a:off x="142920" y="2448000"/>
            <a:ext cx="3222720" cy="7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2dcdb"/>
                </a:solidFill>
                <a:latin typeface="Calibri"/>
              </a:rPr>
              <a:t>中面の下になりま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後藤光貴</cp:lastModifiedBy>
  <dcterms:modified xsi:type="dcterms:W3CDTF">2018-04-05T03:50:58Z</dcterms:modified>
  <cp:revision>8</cp:revision>
  <dc:subject/>
  <dc:title>PowerPoint プレゼンテーション</dc:title>
</cp:coreProperties>
</file>