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335713" cy="2160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598760" y="685440"/>
            <a:ext cx="100555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C2CF-9EB5-45F5-99C2-F0890B0A15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-1598760" y="685800"/>
            <a:ext cx="1005552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F231-C2A4-43C5-8D40-A4AE6D6C99B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-1598760" y="685800"/>
            <a:ext cx="1005552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60A-4D86-42F4-8259-0DEC66F709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1097-E46E-4806-94E8-9F23E5AD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570384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89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1249200"/>
            <a:ext cx="570384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89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20E-DFC7-444A-A7AC-1A2350A0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892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124920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38920" y="124920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973-39EB-4558-811E-E566B089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44600" y="50472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73120" y="50472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124920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44600" y="124920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73120" y="1249200"/>
            <a:ext cx="18363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44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A98-2E32-47D8-93AA-DF805706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504720"/>
            <a:ext cx="5703840" cy="14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374-A1FE-4345-8015-6EAD93EE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570384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489D-249A-4C43-B808-FD22FA6A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278316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38920" y="504720"/>
            <a:ext cx="278316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512F-2AEB-4AB9-8655-36BABC98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5BB-ACDB-4208-BD44-8F380D7E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87480"/>
            <a:ext cx="570384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94B-4CB2-42EB-8A69-2C123447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38920" y="504720"/>
            <a:ext cx="278316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124920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BE6-46F5-4BA3-8CD8-31A7344A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278316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3892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38920" y="124920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E6D-374A-4050-8102-61DEA36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-219240"/>
            <a:ext cx="5703840" cy="9720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38920" y="504720"/>
            <a:ext cx="278316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56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1249200"/>
            <a:ext cx="5703840" cy="6796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89000"/>
          </a:bodyPr>
          <a:p>
            <a:pPr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F6B-23FF-4990-BC89-26500EC7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87480"/>
            <a:ext cx="5703840" cy="35856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504720"/>
            <a:ext cx="5703840" cy="142560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9040" bIns="59040" anchor="t">
            <a:normAutofit fontScale="25000"/>
          </a:bodyPr>
          <a:p>
            <a:pPr marL="109800" indent="-1098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238680" indent="-9144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367920" indent="-7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3" marL="515520" indent="-7272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4" marL="662760" indent="-727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5" marL="662760" indent="-727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6" marL="662760" indent="-7272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5720" y="2003400"/>
            <a:ext cx="1477800" cy="1144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5440" bIns="55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63240" y="2003400"/>
            <a:ext cx="2008440" cy="1144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5440" bIns="55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41760" y="2003400"/>
            <a:ext cx="1478160" cy="114480"/>
          </a:xfrm>
          <a:prstGeom prst="rect">
            <a:avLst/>
          </a:prstGeom>
          <a:noFill/>
          <a:ln w="0">
            <a:noFill/>
          </a:ln>
        </p:spPr>
        <p:txBody>
          <a:bodyPr lIns="118080" rIns="118080" tIns="55440" bIns="55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A194-B4FA-49DB-AC15-3079C9188906}" type="slidenum">
              <a:rPr b="0" lang="ja-JP" sz="1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6200" y="117360"/>
            <a:ext cx="6120000" cy="194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10"/>
          <p:cNvSpPr/>
          <p:nvPr/>
        </p:nvSpPr>
        <p:spPr>
          <a:xfrm>
            <a:off x="3166920" y="19080"/>
            <a:ext cx="0" cy="21416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6"/>
          <p:cNvSpPr/>
          <p:nvPr/>
        </p:nvSpPr>
        <p:spPr>
          <a:xfrm>
            <a:off x="228600" y="380880"/>
            <a:ext cx="282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横書き左開きの場合、こちらが裏面になります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3311640" y="422280"/>
            <a:ext cx="2822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横書き左開きの場合、こちらが表面になります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1817640" y="176040"/>
            <a:ext cx="2697120" cy="16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080" rIns="118080" tIns="59040" bIns="59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この枠は横型Ｓサイズ（幅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170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54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）の枠になり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余分にはみだして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白い線がふちに入る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直線コネクタ 5"/>
          <p:cNvSpPr/>
          <p:nvPr/>
        </p:nvSpPr>
        <p:spPr>
          <a:xfrm>
            <a:off x="3166920" y="19080"/>
            <a:ext cx="0" cy="214164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9"/>
          <p:cNvSpPr/>
          <p:nvPr/>
        </p:nvSpPr>
        <p:spPr>
          <a:xfrm>
            <a:off x="108000" y="108000"/>
            <a:ext cx="6118200" cy="1944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240" rIns="10224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6"/>
          <p:cNvSpPr/>
          <p:nvPr/>
        </p:nvSpPr>
        <p:spPr>
          <a:xfrm>
            <a:off x="228600" y="647640"/>
            <a:ext cx="28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中面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左側になります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6"/>
          <p:cNvSpPr/>
          <p:nvPr/>
        </p:nvSpPr>
        <p:spPr>
          <a:xfrm>
            <a:off x="3311640" y="627120"/>
            <a:ext cx="282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中面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300" spc="-1" strike="noStrike">
                <a:solidFill>
                  <a:srgbClr val="f2dcdb"/>
                </a:solidFill>
                <a:latin typeface="Calibri"/>
              </a:rPr>
              <a:t>右側になります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3:51:49Z</dcterms:modified>
  <cp:revision>16</cp:revision>
  <dc:subject/>
  <dc:title>PowerPoint プレゼンテーション</dc:title>
</cp:coreProperties>
</file>